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640" indent="-1166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12040"/>
            <a:ext cx="3657600" cy="360360"/>
          </a:xfrm>
          <a:prstGeom prst="rect">
            <a:avLst/>
          </a:prstGeom>
          <a:gradFill rotWithShape="0">
            <a:gsLst>
              <a:gs pos="0">
                <a:srgbClr val="00003c"/>
              </a:gs>
              <a:gs pos="100000">
                <a:srgbClr val="000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7600" y="6510240"/>
            <a:ext cx="6248520" cy="360360"/>
          </a:xfrm>
          <a:prstGeom prst="rect">
            <a:avLst/>
          </a:prstGeom>
          <a:gradFill rotWithShape="0">
            <a:gsLst>
              <a:gs pos="0">
                <a:srgbClr val="d2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 Narrow"/>
              </a:rPr>
              <a:t>Inversiones en el marco de los tratados de integración al mu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6360" y="6551640"/>
            <a:ext cx="560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9628-3E5F-4C93-8865-69157E4C43E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88880" y="148428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8880" y="299736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589720"/>
            <a:ext cx="3506760" cy="7236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IP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89440" y="6224760"/>
            <a:ext cx="35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ipe.org.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07640"/>
            <a:ext cx="9144000" cy="18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versiones en el marco de los tratados de integración al mun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5320" y="3276360"/>
            <a:ext cx="921996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Sociedad de Comercio Exterior del Perú – COMEXPER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oro: Inver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ueves, 22 de Julio de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800" y="274680"/>
            <a:ext cx="97059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yores desventajas competitivas: instituciones, ICT, laboral, distribución internacional, educación 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590840"/>
            <a:ext cx="8305560" cy="10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para el Crecimiento (ICC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mbiente macro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ianza del público en los polí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stitucione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ción universidad-empresa en investig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orización del gobierno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Éxito del gobierno en la promoción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Empresarial (ICE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fisticación de las operaciones y estrategia de la compañ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plitud de la compensación con incentiv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la distribución intern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lidad del ambiente de negocios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educación en matemáticas y cienc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infraestructura de transporte aér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60832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World Economic Forum (Global Competitiveness Report 2003-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102 países, se tomó el cuartil inferior / 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95 países, se tomó el cuartil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9840" y="2746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raestructura básica, una que el IPE contribuyó a docume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625140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3720" y="1560600"/>
            <a:ext cx="66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cha total de inversión en infraestructur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7000" y="1878120"/>
            <a:ext cx="8043840" cy="430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4680"/>
            <a:ext cx="8921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.los políticos y algunos empresaurios se siguen encargando de empe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09300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AL, Ministerio de Obras Pública (Chile), Ministerio de Transportes y Comunicaciones (Perú) e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6680"/>
            <a:ext cx="43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Per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6066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20448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44800"/>
            <a:ext cx="4394160" cy="4048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2880" y="26028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¿No les parece mal seguir promoviendo la informalidad, que ya es la quinta mayor del mund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iempo necesario para abrir un neg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dí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5320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nco Mundial (Doing Business Database, 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exibilidad para despedir 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índice, 100 = mayor rig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10120" y="2082960"/>
            <a:ext cx="4495680" cy="411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¿No les parece una pésima idea seguir maltratando a los pocos que investigan al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Red Iberoamericana de Indicadores de Ciencia y Tecnología (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Brasil, Costa Rica y Honduras: 2000; Portugal, Chile, Panamá, México y Trinidad &amp; Tobago: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74640"/>
            <a:ext cx="464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versión en investigación y desarrollo, 2002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5412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inversión en investigación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40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572000" cy="4202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FTA y la inversión en México: los acuerdos comerciales no son una bala de p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ujo neto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porcentaje del PB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040" y="60958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anco Mundial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ry, Lederman, Maloney y Servén, Lessons form NAFTA for Latin American and Caribbean Countries,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016000"/>
            <a:ext cx="7315200" cy="3941640"/>
            <a:chOff x="1295280" y="2016000"/>
            <a:chExt cx="7315200" cy="3941640"/>
          </a:xfrm>
        </p:grpSpPr>
        <p:grpSp>
          <p:nvGrpSpPr>
            <p:cNvPr id="170" name=""/>
            <p:cNvGrpSpPr/>
            <p:nvPr/>
          </p:nvGrpSpPr>
          <p:grpSpPr>
            <a:xfrm>
              <a:off x="1295280" y="2016000"/>
              <a:ext cx="7315200" cy="3941640"/>
              <a:chOff x="1295280" y="2016000"/>
              <a:chExt cx="7315200" cy="394164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045880"/>
                <a:ext cx="7315200" cy="39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2"/>
              <a:srcRect l="599" t="0" r="0" b="541"/>
              <a:stretch/>
            </p:blipFill>
            <p:spPr>
              <a:xfrm>
                <a:off x="1295280" y="2027160"/>
                <a:ext cx="5791320" cy="27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960" y="2016000"/>
                <a:ext cx="104760" cy="115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1752480" y="2263680"/>
              <a:ext cx="487692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6858000" y="2070000"/>
              <a:ext cx="1670040" cy="21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ue siendo imprescindible tener las cosas claras y asentar el desarrollo en instit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7040" y="624996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co Central de Chile, Larroulet (Libre comercio, desarrollo y TLC con EEUU, Marzo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hile: stock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les de millones de US$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3840" y="1928880"/>
            <a:ext cx="7316640" cy="4336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estro país le conviene integrarse al mundo. De eso, sólo dudan mercas y otros despi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1160" y="1600200"/>
            <a:ext cx="9651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nto la evidencia empírica como desarrollos teóricos, recientes o no, sugieren que a economías pequeñas y pobres, como la nuestra, les conviene integrarse al mundo. A países que, como el nuestro, carecen de instituciones, la integración les conviene aún má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LC (EE.UU., Tailandia, ¿Europa, China e India?) son sólo vehículos para la integración al mundo. El ALCA (light) sería mejor para nosotros, la OMC mejor aún. No están, sin embargo, disponibles. Nos conviene aprovechar la coyuntura: desviación de comercio, elecciones y TP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sentados en la mesa porque producimos hoja de coca, la región andina es aún menos estable políticamente que nuestro país y tenemos gas. Además, porque EE.UU. quiere aislar a Brasil y enfrentar a otros bloques económicos, China y la In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benefici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ierran algunas reglas con candado y se proveen incentivos para que se adopten re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 al mercado más grande del mundo: principal socio (particularmente para no tradicionales), 18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riesg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o tradicional: aún no tenemos mecanismos compensatorios, no adoptamos reformas y tenemos instituciones débiles (INRENA, INIA, PRONAMACHS, ¿SENASA? y grem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antilistas y sus juegos de suma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42720" y="1752480"/>
            <a:ext cx="92199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on@ipe.org.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15080" y="4788000"/>
            <a:ext cx="761760" cy="53316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3479760"/>
            <a:ext cx="762120" cy="53352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Nuestra economía representa el 0.2-0.3% de la mundial. ¿Con quién hacemos negocios? ¿A quién pate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5320" y="2409840"/>
            <a:ext cx="867096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8480" y="62784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FMI (World Economic Outlook, abril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" y="1523880"/>
            <a:ext cx="8915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ticipación de algunas economías en el PBI mundial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s del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2100240"/>
            <a:ext cx="410832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en dólares cor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100240"/>
            <a:ext cx="413244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usando la paridad del poder adquisi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880" y="27432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Usualmente decimos que hemos perdido sólo tres décadas: otra muestra de nuestro ais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CRP; Alan Heston, Robert Summers y Bettina Aten (Versión 6.1 Penn World Table, Center for International Comparisons at the University of Pennsylvania - CICUP, Octubre 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PBI per cápita, 1950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Nuevos Soles de 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BI per cápit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43600" y="202572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360" y="2023920"/>
            <a:ext cx="4495680" cy="4118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uestra desintegración del mundo y la integración de otros parecidos: una causa del retraso (rel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MI; BCRP; Alan Heston, Robert Summers y Bettina Aten (Versión 6.1 Penn World Table, Center for International Comparisons at the University of Pennsylvania - CICUP, Octubre 2002);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74640"/>
            <a:ext cx="445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comercial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xterior 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57464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n porcentaje del PBI, en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505400" cy="41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3560"/>
            <a:ext cx="4343400" cy="39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lgunas leyendas urbanas (y rurales) acerca del comercio: EE.UU., México y los subsidios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62040"/>
            <a:ext cx="8953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yo gubernamental estimado al productor agríc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valor bruto de la producción agrícol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OECD (Agricultural policies 2004 at a glance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6560" y="2108160"/>
            <a:ext cx="8443800" cy="4220640"/>
            <a:chOff x="736560" y="2108160"/>
            <a:chExt cx="8443800" cy="4220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rcRect l="2178" t="9467" r="1089" b="18649"/>
            <a:stretch/>
          </p:blipFill>
          <p:spPr>
            <a:xfrm>
              <a:off x="1141200" y="2122200"/>
              <a:ext cx="803916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4546440" y="2158560"/>
              <a:ext cx="927000" cy="74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. Zelan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rqu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. Che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lan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u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560" y="4305240"/>
              <a:ext cx="2057400" cy="290880"/>
            </a:xfrm>
            <a:prstGeom prst="wedgeRectCallout">
              <a:avLst>
                <a:gd name="adj1" fmla="val -22078"/>
                <a:gd name="adj2" fmla="val 102532"/>
              </a:avLst>
            </a:prstGeom>
            <a:solidFill>
              <a:srgbClr val="cddc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4000" bIns="540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$ miles de millones,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3760" y="2108160"/>
              <a:ext cx="4267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homsky, sus pares nacionales, las falacias de la globalización y la inequidad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49440"/>
            <a:ext cx="88772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s viviendo con menos de un dólar por dí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gún la paridad del poder adquisitivo, a precios de 198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9440" y="2195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6640" y="2220840"/>
            <a:ext cx="8805960" cy="3875040"/>
            <a:chOff x="566640" y="2220840"/>
            <a:chExt cx="8805960" cy="3875040"/>
          </a:xfrm>
        </p:grpSpPr>
        <p:pic>
          <p:nvPicPr>
            <p:cNvPr id="118" name="BlobServer" descr=""/>
            <p:cNvPicPr/>
            <p:nvPr/>
          </p:nvPicPr>
          <p:blipFill>
            <a:blip r:embed="rId1"/>
            <a:srcRect l="0" t="16475" r="0" b="3823"/>
            <a:stretch/>
          </p:blipFill>
          <p:spPr>
            <a:xfrm>
              <a:off x="566640" y="2220840"/>
              <a:ext cx="88059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54960" y="2311560"/>
              <a:ext cx="259056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% de la población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040" y="2324160"/>
              <a:ext cx="144792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762440"/>
              <a:ext cx="1295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9200" y="3492360"/>
              <a:ext cx="16002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American Economic Review (Bourguignon y Morrison, 2002), Banco Mundial, Bhalla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lgunas opiniones coincidentes bastante mejor fundamen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 economías abiertas crecen más rápi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ricos son más proteccionistas que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aumenta la pobreza en el Tercer Mun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teccionismo agrícola en los países ricos aumenta la pobreza glob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pobres no deberían abrir sus mercados si es que los países ricos mantienen sus barreras al comerci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hay ‘Desarrollo’ en la Agenda de Desarrollo de Doh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Organización Mundial de Comercio perjudica a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es malo para el medio ambient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Panagariya, Arvind (“Think again: international trade”, Foreign Policy, diciembre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880" y="274680"/>
            <a:ext cx="9360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troceso de la inversión también es más marcado de lo que sugieren las comparaciones histór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040" y="6058080"/>
            <a:ext cx="8732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BCRP, UNCTAD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Índice = (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/(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p = país, g = glob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606680"/>
            <a:ext cx="45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privada e 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5960" y="1606680"/>
            <a:ext cx="460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Índice de desempeño de la IED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bicación en el ranking, orden inver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0430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4419720" cy="40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900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etitividad y la equivocada actitud de algunos “empresar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E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706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orld Economic Forum (Global Competitiveness Report 2003-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Empresarial / </a:t>
            </a: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para el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51440" y="356508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mpeti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5040" y="29588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C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6880" y="2003400"/>
            <a:ext cx="4343400" cy="397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16600" y="2003400"/>
            <a:ext cx="4352760" cy="3986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2:07:03Z</dcterms:created>
  <dc:creator>Pavel Hernández B.</dc:creator>
  <dc:description/>
  <dc:language>en-US</dc:language>
  <cp:lastModifiedBy>Pavel Hernández Bracamonte</cp:lastModifiedBy>
  <dcterms:modified xsi:type="dcterms:W3CDTF">2004-07-21T23:26:56Z</dcterms:modified>
  <cp:revision>1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73177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/>
  </property>
</Properties>
</file>